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567-A1C3-4867-8BC9-4D9BA3E5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7D36-3D09-4CD1-8A52-C2764395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DA1-643B-49FD-BED8-FA6CFC5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825-C316-4CCD-B88D-A2852BA1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13D-83F9-443D-B427-4293DA0B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F2B-F404-4199-AA8B-1D74569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A46-8438-4D13-AB12-089D7000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606-4E4E-486C-A005-8C968E5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640-7B71-4C5F-B63F-DAA3F170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F1D-7167-4060-83D9-4783A7E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E87-D3D9-4819-B089-A0F5376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01E-4E80-420A-8416-A23400D1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910-A86D-455E-82F5-DB7A898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EE2-8132-4B1D-84C9-5EE1823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1914-0E95-4C14-850C-2EEB3117B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00200" y="48769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4952880"/>
            <a:ext cx="1143000" cy="381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00200" y="5029200"/>
            <a:ext cx="1066680" cy="246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cul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19520" y="4952880"/>
            <a:ext cx="1143000" cy="38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038480" y="4952880"/>
            <a:ext cx="106704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181480" y="5029200"/>
            <a:ext cx="106704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324480" y="4952880"/>
            <a:ext cx="11430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819520" y="5029200"/>
            <a:ext cx="1066680" cy="246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l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égu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038480" y="5029200"/>
            <a:ext cx="1067040" cy="246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fr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81480" y="4876920"/>
            <a:ext cx="1143000" cy="47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produit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lait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324480" y="4952880"/>
            <a:ext cx="106704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viand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523880" y="5334120"/>
            <a:ext cx="6019920" cy="99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733920" y="5562720"/>
            <a:ext cx="1066680" cy="39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es mati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  <a:ea typeface="Times New Roman"/>
              </a:rPr>
              <a:t>s gr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87692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952880" y="304920"/>
            <a:ext cx="274320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pyramide alimen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8:03:02Z</dcterms:created>
  <dc:creator>Dawn Samples</dc:creator>
  <dc:description/>
  <dc:language>en-US</dc:language>
  <cp:lastModifiedBy>Administrator</cp:lastModifiedBy>
  <dcterms:modified xsi:type="dcterms:W3CDTF">2010-06-28T18:52:19Z</dcterms:modified>
  <cp:revision>1</cp:revision>
  <dc:subject/>
  <dc:title>Slide 1</dc:title>
</cp:coreProperties>
</file>